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BD6F-405D-4043-ADAF-90D8BD2F244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s lesson is about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staff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all staff are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other boys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they are all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accommodation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luxu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he is enjoy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he is having a good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about dad’s in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something about the snea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ar m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e Always Stan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 GREEN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UP A POSTCODE/ZIP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es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To write a letter to Stanley's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ITE 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pter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tter Stanley wr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write Stanley’s full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needs an address [CAMP GREEN LAKE, TEXAS] and must include som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mp green lake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very green and a very huge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un things’ he is doing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don’t write you have to dig h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lovely food’ he is ha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loads of tasty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EF014-4F27-491B-AE93-5BBCC71EA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9F748-A6A8-47C9-85B1-708785FC9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C0B68-DF5C-474E-9372-85E408FEC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45B4E-19C7-4367-A923-A05EB83D8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8AA20-2636-4585-84FE-E06A40AB8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59E46-D563-486E-9752-098879AAB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82D83-2A34-49C0-96F8-1955F3CEF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65826-C464-4CED-86AF-C5921659F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70A14-175A-4943-BFE4-1DCB8C461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CAB96-0C6E-4ED0-AECD-6B65608B9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0E99C-84B3-49A9-98F2-7185584EA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3705D-2297-44A9-9CC8-C8897590B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1F91-F6E8-402F-8C28-A83162DB5D6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Today's lesson is about letter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staff are lik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all staff are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other boys are lik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they are all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accommodation is lik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it is luxuriou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uch he is enjoying himself</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he is having a good tim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71424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Ask about dad’s inventio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428760"/>
            <a:ext cx="8229600" cy="4525920"/>
          </a:xfrm>
          <a:prstGeom prst="rect">
            <a:avLst/>
          </a:prstGeom>
          <a:noFill/>
          <a:ln w="0">
            <a:noFill/>
          </a:ln>
        </p:spPr>
        <p:txBody>
          <a:bodyPr anchor="t">
            <a:normAutofit/>
          </a:bodyPr>
          <a:p>
            <a:pPr marL="343080" indent="-343080">
              <a:lnSpc>
                <a:spcPct val="80000"/>
              </a:lnSpc>
              <a:spcBef>
                <a:spcPts val="2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900" spc="-1" strike="noStrike">
                <a:solidFill>
                  <a:srgbClr val="000000"/>
                </a:solidFill>
                <a:latin typeface="Calibri"/>
              </a:rPr>
              <a:t>Include something about the sneakers. </a:t>
            </a:r>
            <a:endParaRPr b="0" lang="en-US" sz="8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571680"/>
            <a:ext cx="8229600" cy="4525920"/>
          </a:xfrm>
          <a:prstGeom prst="rect">
            <a:avLst/>
          </a:prstGeom>
          <a:noFill/>
          <a:ln w="0">
            <a:noFill/>
          </a:ln>
        </p:spPr>
        <p:txBody>
          <a:bodyPr anchor="t">
            <a:normAutofit/>
          </a:bodyPr>
          <a:p>
            <a:pPr marL="343080" indent="-343080">
              <a:lnSpc>
                <a:spcPct val="90000"/>
              </a:lnSpc>
              <a:spcBef>
                <a:spcPts val="2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End with: </a:t>
            </a:r>
            <a:endParaRPr b="0" lang="en-US" sz="8200" spc="-1" strike="noStrike">
              <a:solidFill>
                <a:srgbClr val="000000"/>
              </a:solidFill>
              <a:latin typeface="Calibri"/>
            </a:endParaRPr>
          </a:p>
          <a:p>
            <a:pPr marL="343080" indent="-343080">
              <a:lnSpc>
                <a:spcPct val="90000"/>
              </a:lnSpc>
              <a:spcBef>
                <a:spcPts val="2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You do believe me don’t you mum?</a:t>
            </a:r>
            <a:endParaRPr b="0" lang="en-US" sz="8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57120" y="1714680"/>
            <a:ext cx="8229600" cy="50004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Dear mum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Love Always Stanley</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d with: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You do believe me don’t you mum?</a:t>
            </a:r>
            <a:endParaRPr b="0" lang="en-US" sz="3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75" name="TextBox 3"/>
          <p:cNvSpPr/>
          <p:nvPr/>
        </p:nvSpPr>
        <p:spPr>
          <a:xfrm>
            <a:off x="4929120" y="357120"/>
            <a:ext cx="39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MP GREEN L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EX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KE UP A POSTCODE/ZIP 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r>
              <a:rPr b="1" lang="en-GB" sz="2000" spc="-1" strike="noStrike" baseline="30000">
                <a:solidFill>
                  <a:srgbClr val="000000"/>
                </a:solidFill>
                <a:latin typeface="Calibri"/>
              </a:rPr>
              <a:t>th</a:t>
            </a:r>
            <a:r>
              <a:rPr b="1" lang="en-GB" sz="2000" spc="-1" strike="noStrike">
                <a:solidFill>
                  <a:srgbClr val="000000"/>
                </a:solidFill>
                <a:latin typeface="Calibri"/>
              </a:rPr>
              <a:t> DEC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18</a:t>
            </a:r>
            <a:r>
              <a:rPr b="1" lang="en-GB" sz="4400" spc="-1" strike="noStrike" u="sng" baseline="30000">
                <a:solidFill>
                  <a:srgbClr val="000000"/>
                </a:solidFill>
                <a:uFillTx/>
                <a:latin typeface="Calibri"/>
              </a:rPr>
              <a:t>th</a:t>
            </a:r>
            <a:r>
              <a:rPr b="1" lang="en-GB" sz="4400" spc="-1" strike="noStrike" u="sng">
                <a:solidFill>
                  <a:srgbClr val="000000"/>
                </a:solidFill>
                <a:uFillTx/>
                <a:latin typeface="Calibri"/>
              </a:rPr>
              <a:t> December 2009 </a:t>
            </a:r>
            <a:endParaRPr b="0" lang="en-US" sz="4400" spc="-1" strike="noStrike">
              <a:solidFill>
                <a:srgbClr val="000000"/>
              </a:solidFill>
              <a:latin typeface="Calibri"/>
            </a:endParaRPr>
          </a:p>
        </p:txBody>
      </p:sp>
      <p:sp>
        <p:nvSpPr>
          <p:cNvPr id="50" name="PlaceHolder 2"/>
          <p:cNvSpPr>
            <a:spLocks noGrp="1"/>
          </p:cNvSpPr>
          <p:nvPr>
            <p:ph type="subTitle"/>
          </p:nvPr>
        </p:nvSpPr>
        <p:spPr>
          <a:xfrm>
            <a:off x="571680" y="500040"/>
            <a:ext cx="3714480" cy="571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Holes (letters)</a:t>
            </a:r>
            <a:endParaRPr b="0" lang="en-US" sz="3200" spc="-1" strike="noStrike">
              <a:solidFill>
                <a:srgbClr val="000000"/>
              </a:solidFill>
              <a:latin typeface="Calibri"/>
            </a:endParaRPr>
          </a:p>
        </p:txBody>
      </p:sp>
      <p:sp>
        <p:nvSpPr>
          <p:cNvPr id="51" name="Rectangle 3"/>
          <p:cNvSpPr/>
          <p:nvPr/>
        </p:nvSpPr>
        <p:spPr>
          <a:xfrm>
            <a:off x="928800" y="1714680"/>
            <a:ext cx="8072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Obj:To write a letter to Stanley's mum</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760" y="42876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t>
            </a:r>
            <a:r>
              <a:rPr b="0" lang="en-GB" sz="3600" spc="-1" strike="noStrike">
                <a:solidFill>
                  <a:srgbClr val="000000"/>
                </a:solidFill>
                <a:latin typeface="Calibri"/>
              </a:rPr>
              <a:t>WHITE L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9144000" cy="68580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1" lang="en-GB" sz="4400" spc="-1" strike="noStrike" u="sng">
                <a:solidFill>
                  <a:srgbClr val="000000"/>
                </a:solidFill>
                <a:uFillTx/>
                <a:latin typeface="Calibri"/>
              </a:rPr>
              <a:t>Chapter 9</a:t>
            </a:r>
            <a:endParaRPr b="0" lang="en-US" sz="44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57120" y="428400"/>
            <a:ext cx="8229600" cy="278604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etter Stanley wrote</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ask is to write Stanley’s full l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needs an address [CAMP GREEN LAKE, TEXAS] and must include some of the follow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camp green lake is lik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say it is very green and a very huge lak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fun things’ he is doing ther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don’t write you have to dig hol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lovely food’ he is hav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loads of tasty foo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0:24:07Z</dcterms:created>
  <dc:creator>james</dc:creator>
  <dc:description/>
  <dc:language>en-US</dc:language>
  <cp:lastModifiedBy>RomaK</cp:lastModifiedBy>
  <dcterms:modified xsi:type="dcterms:W3CDTF">2015-09-04T10:35:54Z</dcterms:modified>
  <cp:revision>14</cp:revision>
  <dc:subject/>
  <dc:title>Holes</dc:title>
</cp:coreProperties>
</file>